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3193-3D4A-4D7C-A800-835883818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E196-EAD3-42E7-B4BF-F8819A71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45C5-E0AC-4CBA-9E35-D9418AED4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59ED-1127-4893-881D-8BE394548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1788-6CA5-4960-BB36-4CF5136A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5FEC-135C-485D-92C8-255170E3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E11C-B346-47F4-9CF5-C528068A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6E0B-4D09-4C50-AC7F-EB889F09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8218-394C-439C-9C3E-52BE4D8D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48CD-5199-4327-BC20-0713A0DF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C6AA-92BD-4116-9656-BFFE5EBC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4ACD-5287-4800-AC2B-F64532C0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8FF3-694D-467F-B264-784C97872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jisti informace k vybranému africkému stát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Základní informac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ázev státu, hlavní město (počet obyvatel), poloha, rozloha (pořadí), celkový počet obyvatel (pořadí), vyhlášení nezávislosti (koloni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řírodní podmínky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ejvyšší a nejnižší bod, řeka, veget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ůmysl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zemědělství, těžba, cestovní ruch (zajímavá míst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byvatelstvo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rbanizace, hustota zalidnění, úřední jazyk, délka života, náboženství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9T17:44:42Z</dcterms:created>
  <dc:creator>kk</dc:creator>
  <dc:description/>
  <dc:language>en-US</dc:language>
  <cp:lastModifiedBy>kk</cp:lastModifiedBy>
  <dcterms:modified xsi:type="dcterms:W3CDTF">2006-11-27T15:11:44Z</dcterms:modified>
  <cp:revision>2</cp:revision>
  <dc:subject/>
  <dc:title>Zjisti informace k vybranému africkému státu:</dc:title>
</cp:coreProperties>
</file>