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50C-29CE-4B74-B62B-1BB19D60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C68-3F7F-419E-8237-20281C77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101-EEA0-486C-909F-CCE5606E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811-F79B-4901-A81A-DFFF3C8B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B23-4B51-424A-AE6D-290C9806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38A-4D6B-490A-8F23-57EBB93F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953-A023-4BE1-9A51-156177D4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9F1-644D-4773-A3F3-9E120937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D5E-1F18-48AA-93FD-7C8C33B3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CC1-8A81-4744-9C3E-FDDEE22C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D6C-3F56-4E05-B47E-89BCB0E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DE6-5E2A-44D6-A58C-092BEC77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622A-1E7C-445D-880C-232D163AF3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vrch a nerostné bohatství Af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http://www.tportal.hr/2004/12/28/0757007.19.jpg"/>
          <p:cNvPicPr/>
          <p:nvPr/>
        </p:nvPicPr>
        <p:blipFill>
          <a:blip r:embed="rId1"/>
          <a:stretch/>
        </p:blipFill>
        <p:spPr>
          <a:xfrm>
            <a:off x="533520" y="1905120"/>
            <a:ext cx="4092480" cy="2754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indaba.i8.com/obr/stolovka.jpg"/>
          <p:cNvPicPr/>
          <p:nvPr/>
        </p:nvPicPr>
        <p:blipFill>
          <a:blip r:embed="rId2"/>
          <a:stretch/>
        </p:blipFill>
        <p:spPr>
          <a:xfrm>
            <a:off x="3581280" y="3733920"/>
            <a:ext cx="53499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vrch Af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huru 5895 m x Assalská proláklina –15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las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ver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tlas, Etiopská vysoč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Jih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Dračí hory, Vysoký V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Východ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ýchodoafrická příkopová propadlina, Východoafrická vysoč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Vnitrozemí (pánve, plošiny, tabule)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aharsko-sudánská tabule (pouště), Kongžská a Čadská pán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břeží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úzké pásy níž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uště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byjsk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ubijsk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lah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http://w1.878.telia.com/~u87811334/gallery/Kalahari.jpg"/>
          <p:cNvPicPr/>
          <p:nvPr/>
        </p:nvPicPr>
        <p:blipFill>
          <a:blip r:embed="rId1"/>
          <a:stretch/>
        </p:blipFill>
        <p:spPr>
          <a:xfrm>
            <a:off x="3809880" y="3352680"/>
            <a:ext cx="5334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ro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pa a zemní ply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everní Afrika, Guinejský zál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dy barevných kovů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provincie SHA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Zlato a diaman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JAR, SHA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sfá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everní Afr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engr.calvin.edu/courses/South%20Africa/Heun%20interim%20pictures/images/Kimberly%20Bighole_jpg.jpg"/>
          <p:cNvPicPr/>
          <p:nvPr/>
        </p:nvPicPr>
        <p:blipFill>
          <a:blip r:embed="rId1"/>
          <a:stretch/>
        </p:blipFill>
        <p:spPr>
          <a:xfrm>
            <a:off x="4754520" y="743040"/>
            <a:ext cx="4389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8:09:10Z</dcterms:created>
  <dc:creator>kk</dc:creator>
  <dc:description/>
  <dc:language>en-US</dc:language>
  <cp:lastModifiedBy>PC</cp:lastModifiedBy>
  <dcterms:modified xsi:type="dcterms:W3CDTF">2014-04-23T18:58:58Z</dcterms:modified>
  <cp:revision>3</cp:revision>
  <dc:subject/>
  <dc:title>Povrch a nerostné bohatství Afriky</dc:title>
</cp:coreProperties>
</file>