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53C-5647-496D-B08A-C143B8F0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270-1363-45FF-99DF-38B7FE00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A30-842C-4501-A179-D1C2851D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4E2-150D-481F-959C-616E5B4E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4DB-217D-40FE-97FD-EECC1649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1F8-01D7-4034-BD43-87C94EC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453-3A95-4C10-8DA5-871DA25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4FF-5687-4DFC-BF9C-20D55652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1AE-3050-42CC-8364-D41AA139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70C-10D8-48A8-B2AA-57F238F2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AD8-8E73-4038-8F90-40485F2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CCD-0245-406E-91C6-DBB6750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1A0C-5997-4A7C-AFC8-6381D891E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oha, rozloha, členitost pobř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114960" cy="5398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kresli náčrt mapy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jaké polokouli leží AFRIKA a s kým sous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aké jsou mezní body AFRIK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nejsevernější, nejjižnější, nejvýchodnější, nejzápadnější (název a zeměpisné souřadn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ndického oceánu zasahuje ……… poloostro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Indickém oceánu leží ve vzdálenosti ……… km 4 největší ostrov světa…………. a dalšími ostrovy jsou 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Atlantském oceánu leží souostroví …………….. a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áčrtu mapy Afriky dopl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vník, nultý poledník, obratníky Raka a Kozoro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piš jaká je rozloha Afriky v k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piš: Somálský poloostrov, Madagaskar, Gibraltarský průliv a Suezský průpla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plň a popiš: Kapverdské ostrovy, Kanárské ostrovy, Reúnion, Zanzibar, Komory, Seychely a Maskaré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21:52:18Z</dcterms:created>
  <dc:creator>kk</dc:creator>
  <dc:description/>
  <dc:language>en-US</dc:language>
  <cp:lastModifiedBy>kk</cp:lastModifiedBy>
  <dcterms:modified xsi:type="dcterms:W3CDTF">2006-03-12T21:53:05Z</dcterms:modified>
  <cp:revision>1</cp:revision>
  <dc:subject/>
  <dc:title>AFRIKA</dc:title>
</cp:coreProperties>
</file>