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CB3-D920-43AB-9381-E762F8E4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EF5-5806-4624-ABA3-0A931760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FE6-B814-45CE-BF1D-4186F356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091-7F03-45BD-B3EE-7EFE11DE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06-041E-4B10-B330-71481DD5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6C0-4BB1-4D7D-9AEB-DD2C14AD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4A9-760D-4BAA-8AFC-AA195654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407-3F53-4D18-86A6-47B4F45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C64-4A2D-45F8-A564-5D85AA8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99A-3C11-4CC5-86C6-24ECE1E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68A-5AEF-40F1-9198-F4CA75D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CCC-E9EB-4DED-98DF-D974C305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F77C-4AF0-4B6C-BE61-83967560D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402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FRIKA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dneb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995640" y="-12600"/>
            <a:ext cx="5391360" cy="404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-30240" y="2813040"/>
            <a:ext cx="7116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akování a samostatná prá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mapě Afriky najděte nejteplejší a nejchladnější místo, nejsušší a nejdeštivější místo a zapiš 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é jsou hlavní podnební činitelé (tj. co vše ovlivňuje počas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frika je nejteplejší světadíl (téměř celá leží v tropickém pásu) oblasti se liší průběhem teplot a množstvím sráž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vníkové podneb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teplo a vlhko po celý rok (nejdeštivější mí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lhké trop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letní období dešťů a zimní období sucha (teplo a kolísání sráž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hé trop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suché a horké podnebí (nejteplejší a nejsušší místa Afri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trop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sever a jih Afri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ále ovlivňuje podnebí: nadmořská výška, mořské proudy (studené = poušt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85680" y="1116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Zaoblený obdélník 4"/>
          <p:cNvSpPr/>
          <p:nvPr/>
        </p:nvSpPr>
        <p:spPr>
          <a:xfrm>
            <a:off x="5581800" y="3333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Zaoblený obdélník 7"/>
          <p:cNvSpPr/>
          <p:nvPr/>
        </p:nvSpPr>
        <p:spPr>
          <a:xfrm>
            <a:off x="5581800" y="10098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Zaoblený obdélník 8"/>
          <p:cNvSpPr/>
          <p:nvPr/>
        </p:nvSpPr>
        <p:spPr>
          <a:xfrm>
            <a:off x="5594400" y="16765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Zaoblený obdélník 9"/>
          <p:cNvSpPr/>
          <p:nvPr/>
        </p:nvSpPr>
        <p:spPr>
          <a:xfrm>
            <a:off x="5581800" y="23493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aoblený obdélník 10"/>
          <p:cNvSpPr/>
          <p:nvPr/>
        </p:nvSpPr>
        <p:spPr>
          <a:xfrm>
            <a:off x="5581800" y="298296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ovéPole 5"/>
          <p:cNvSpPr/>
          <p:nvPr/>
        </p:nvSpPr>
        <p:spPr>
          <a:xfrm>
            <a:off x="6649200" y="4222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ovníkov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ovéPole 12"/>
          <p:cNvSpPr/>
          <p:nvPr/>
        </p:nvSpPr>
        <p:spPr>
          <a:xfrm>
            <a:off x="6645600" y="110016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ropická vlhk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6641640" y="176544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ropická such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14"/>
          <p:cNvSpPr/>
          <p:nvPr/>
        </p:nvSpPr>
        <p:spPr>
          <a:xfrm>
            <a:off x="6665400" y="24382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ubtropická such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16"/>
          <p:cNvSpPr/>
          <p:nvPr/>
        </p:nvSpPr>
        <p:spPr>
          <a:xfrm>
            <a:off x="6654240" y="307512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ubtropická  přímořsk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aoblený obdélník 17"/>
          <p:cNvSpPr/>
          <p:nvPr/>
        </p:nvSpPr>
        <p:spPr>
          <a:xfrm>
            <a:off x="5594400" y="3645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8"/>
          <p:cNvSpPr/>
          <p:nvPr/>
        </p:nvSpPr>
        <p:spPr>
          <a:xfrm>
            <a:off x="6652440" y="37353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sokohorská 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frika - veget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397160"/>
          <a:ext cx="8353440" cy="4622760"/>
        </p:xfrm>
        <a:graphic>
          <a:graphicData uri="http://schemas.openxmlformats.org/drawingml/2006/table">
            <a:tbl>
              <a:tblPr/>
              <a:tblGrid>
                <a:gridCol w="2498760"/>
                <a:gridCol w="1677960"/>
                <a:gridCol w="2087640"/>
                <a:gridCol w="2089080"/>
              </a:tblGrid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ne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o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mědělské plod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vníková 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nejský záliv (okolí rovník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ický deštný 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áva, kakao, těžba dřeva, baná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ická vlhká 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rovníku k 20ºs.š.  - 20ºj.š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o, čirok, kukuřice, batáty, bavlna at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ická suchá 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20ºs.š. a 20ºj.š. k obratník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á savana, polopoušt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zemnice olejná, pastviny, bavlna, čirok, proso at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opická such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olí obratní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pouště a poušt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 datlová, občasné pastv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opická přímořsk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ní a jižní pobřeží Afri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omořská tvrdolistá vege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rusy, olivy, vinná réva, pš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8:39:36Z</dcterms:created>
  <dc:creator>kk</dc:creator>
  <dc:description/>
  <dc:language>en-US</dc:language>
  <cp:lastModifiedBy>PC</cp:lastModifiedBy>
  <dcterms:modified xsi:type="dcterms:W3CDTF">2014-04-23T19:44:11Z</dcterms:modified>
  <cp:revision>10</cp:revision>
  <dc:subject/>
  <dc:title>AFRIKA -  podnebí</dc:title>
</cp:coreProperties>
</file>