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F33-C880-408A-A55F-5353102E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6281-827A-43E4-BCB5-D357E981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40CE-2EC7-4262-BEA6-49ECB9BB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49E-FBFA-457E-9332-D80AAB1E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572-BB79-4851-89AF-0272F89B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5A85-C4C4-47C7-AB4B-F532F55B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0CA-8287-4F89-BA95-F8DFD684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5752-FCD5-446D-9930-41A41C36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7BA-22B9-4E1B-8437-F9974E0E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8372-B049-477D-9162-4C230EF7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119D-AD72-4A97-9517-B5D82B8E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EE56-C2EE-4B1D-A256-550D3F64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B9C7-EFC5-4631-9CC5-ABF3327A0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jisti informace k vybranému africkému stát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Základní informac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ázev státu, hlavní město (počet obyvatel), poloha, rozloha (pořadí), celkový počet obyvatel (pořadí), vyhlášení nezávislosti (koloni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řírodní podmínk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jvyšší a nejnižší bod, řeka, veget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ůmys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emědělství, těžba, cestovní ruch (zajímavá míst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yvatelstvo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rbanizace, hustota zalidnění, úřední jazyk, délka života, náboženstv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7:44:42Z</dcterms:created>
  <dc:creator>kk</dc:creator>
  <dc:description/>
  <dc:language>en-US</dc:language>
  <cp:lastModifiedBy>kk</cp:lastModifiedBy>
  <dcterms:modified xsi:type="dcterms:W3CDTF">2006-05-09T17:52:37Z</dcterms:modified>
  <cp:revision>2</cp:revision>
  <dc:subject/>
  <dc:title>Zjisti informace k vybranému africkému státu:</dc:title>
</cp:coreProperties>
</file>