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409A-F6DF-4A22-9015-85EA8BB96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468A-5AD5-4827-B5CA-7B61D070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7229-B070-4D75-8E0F-2FCE93BEF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A47F-649F-4294-8741-B27099F4E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1135-CF25-4FB2-83A5-C6ED4F59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9AB0-230B-4D0D-A123-160A0733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05C5-1FDE-4369-87B1-BDFFA90B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597B-8DDF-4E2C-93D2-0441DD25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9F92-FB74-4971-8B0C-5AC89176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B2D8-A785-42F6-A28B-9AB506F8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4B4A-60A1-4A1D-AB92-6775188B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238F-1F0F-4FFA-BC9A-FC4D2C5C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B8BA-7CF9-4713-9377-6D724FBA1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image" Target="../media/image3.jpeg"/><Relationship Id="rId5" Type="http://schemas.openxmlformats.org/officeDocument/2006/relationships/slide" Target="slide2.xml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png"/><Relationship Id="rId3" Type="http://schemas.openxmlformats.org/officeDocument/2006/relationships/slide" Target="slide3.xm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rika – obyvatelstvo a síd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womchil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609624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Kolébka lidst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Tanzani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vní civiliz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Egypt, Kartág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rabové sever Afrik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7. stolet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vropané od 15. stolet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kolonie – FR, VB, N, ŠP) do 20. století (poté dekolonizace – 1960 rok Afrik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3733920"/>
            <a:ext cx="2193840" cy="2925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324480" y="152280"/>
            <a:ext cx="2313000" cy="2079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629400" y="320040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2514600" y="3429000"/>
            <a:ext cx="400068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časnost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426600" indent="-42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s 1 mld. obyvatel(2010)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stré národnostní a rasové složen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-42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Vysoký přirozený přírůstek, vysoká kojenecká úmrtnost, krátká délka živ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-42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Skupiny národů a ras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-42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ílá (sever – Arabové, jih – Evropané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-42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vníková Afrika – černoš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-42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adagaskar – Malgašov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-42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jednocujícím prvkem zemí není národnos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le jazyk bývalých kolonizátorů (války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0" y="4572000"/>
            <a:ext cx="3276720" cy="2136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629400" y="2362320"/>
            <a:ext cx="2354400" cy="42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sídlení a síd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rovnoměrné díky přírodním podmínká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méně (pouště, hory, prales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více (okolí řek, okolí Viktoriina j. a j. Tanganika, pořeží Guinejského zálivu a sever Afrik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větší města: Káhira, Lagos, Alexandrie, Kinshasa, Abidj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4389480" cy="2914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876920" y="365760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yvatelstvo - práce s atlase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ustota osídlení (atlas str. 20-21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jvíce…………………………………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jméně a neosídleno…………………………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jvyšší přirozený přírůstek obyvatel mají státy (atlas str. 22)……………………….. (srovnej s Č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azyky (atlas str. 18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ever:………………………………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ápad a střed………………………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ih…………………………………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ngola a Mosambik………………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áboženství (atlas str. 19)……………………………………………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jvětší města - aglomerace nad 5 milionů obyvatel (atlas str. 20-21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lavní a smíšené rasy (atlas str. 23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) sever……………. b) povodí Nilu……………... c) střed a jih…………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) Madagaskar……………..e) JAR……………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ajdi vybrané skupiny národů (atlas str. 23): Arabové, Bantuové, Berbeři a Tuaregov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yvatelstvo - práce s atlasem řešení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ustota osídlení (atlas str. 20-21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jvíce: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delta Ni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jméně a neosídleno: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Sahara a další pouštní obla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jvyšší přirozený přírůstek obyvatel mají státy (atlas str. 22):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Nigérie, Ghana, Botswana, Uganda, Keňa, Liby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srovnej s ČR –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přirozený úbytek obyvatel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azyky (atlas str. 18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ever: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arabš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ápad a střed: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francouzština a anglič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ih: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anglič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ngola a Mosambik: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portugalš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áboženství (atlas str. 19):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islám, animisté, křesťanstv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jvětší města - aglomerace nad 5 milionů obyvatel (atlas str. 20-21):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Káhira, Kinshasa, La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lavní a smíšené rasy (atlas str. 23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) sever: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europoidní (semitská a hamitská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b) povodí Nilu: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Somálci, Niloti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c) střed a jih: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afričtí černoši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d) Madagaskar: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Malgašové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) JAR: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Jihoafriča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ajdi vybrané skupiny národů (atlas str. 23): Arabové (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seve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), Bantuové (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střed a jih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), Berbeři a Tuaregové (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sever - kočovníci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áty Afri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6624720" cy="3432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79280" y="836640"/>
            <a:ext cx="8744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 osmisměrce je schováno 17 názvů afrických států. Hledané státy jsou zvýrazněny na přiložené mapce – vašim úkolem je najít všechny státy v osmisměrce tak, aby vám ze zbylých písmen vyšla tajenka. Tajenkou je název dalšího afrického státu. Vyluštěte, o který stát jde, a doplňte další požadované informa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88000" y="2924280"/>
            <a:ext cx="279108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) tajenk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) hlavní město tohoto stá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) název pouště, která se nachází na území tohoto stá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) název státu, se kterým má nejkratší hrani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2720" y="5923080"/>
            <a:ext cx="16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droj: Dnešní svě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áty Afriky - řeš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43280" y="2133720"/>
            <a:ext cx="3905280" cy="3362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0920" y="2421000"/>
            <a:ext cx="439236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) Tajenku -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Botsw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b) hlavní město tohoto státu -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Gabor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c) název pouště, která se nachází na území tohoto státu -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Kalaha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) název státu, se kterým má nejkratší hranici -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Zamb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rika - hospodářstv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frika je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nejchudší světadíl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a to i přesto, že má dostatek nerostných surovina pracovních s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ekážkou hospodářského rozvoje j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ilná orientace na těžební průmysl, který dále nezpracovávaj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onokultrurní zeměděství (plantáže -  vývoz, obživa – malá políčk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álo rozvinutá doprava – jen od zdrojů k nejbližšímu přístav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álo rozvinutý zpracovatelský průmysl a služby (chybí kvalifikovaní pracovníci – vysoká negramotnost, malá vzdělano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3645000"/>
            <a:ext cx="3564000" cy="2342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508720" y="3645000"/>
            <a:ext cx="3851280" cy="2576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203640" y="3068640"/>
            <a:ext cx="23796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06:05:20Z</dcterms:created>
  <dc:creator>kk</dc:creator>
  <dc:description/>
  <dc:language>en-US</dc:language>
  <cp:lastModifiedBy>jj</cp:lastModifiedBy>
  <dcterms:modified xsi:type="dcterms:W3CDTF">2011-05-31T13:29:59Z</dcterms:modified>
  <cp:revision>14</cp:revision>
  <dc:subject/>
  <dc:title>Afrika – obyvatelstvo a sídla</dc:title>
</cp:coreProperties>
</file>