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EAF-13F1-4CBE-801D-4964FF9E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474-2DF5-48FA-B9A5-6A98FD95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499-EB1B-4335-AFFE-B8C8EA61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5BA-CF91-41BC-AFEE-8B143796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6D0-4B8C-4DA6-ACF6-0D748F49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315-7A4F-4B97-9376-AD500BA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BAA-D2DA-4E32-B4B6-580020BC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D86-0CF0-4A3D-BF98-35397D4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4F4-7E2B-4B33-9F7C-875B2D82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769-1FCC-4F9A-8203-A7A5337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F09-D52B-4BB3-94C3-3EDF375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56A-4F8F-4A74-A56A-73B2831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99D0-DB0F-4D32-9F96-2CAE314F7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žní Af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frica-countries-southern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14800" cy="4480200"/>
          </a:xfrm>
          <a:prstGeom prst="rect">
            <a:avLst/>
          </a:prstGeom>
          <a:ln w="0">
            <a:noFill/>
          </a:ln>
        </p:spPr>
      </p:pic>
      <p:pic>
        <p:nvPicPr>
          <p:cNvPr id="43" name="zoom_southern_africa" descr=""/>
          <p:cNvPicPr/>
          <p:nvPr/>
        </p:nvPicPr>
        <p:blipFill>
          <a:blip r:embed="rId2"/>
          <a:stretch/>
        </p:blipFill>
        <p:spPr>
          <a:xfrm>
            <a:off x="5181480" y="2895480"/>
            <a:ext cx="3314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vyšší pohoří na jihu Afriky (5 +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 kontinentu na jihu Afriky vyplňuje poušť (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obřeží Atlantiku leží poušť (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jihu Afriky patří i největší ostrov Afriky (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významnějším jezerem na jihu Afriky je 2. nejhlubší jezero Afriky (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.š. a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.d. leží bažiny (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ktoríny vodopády leží na řece (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ndického oceánu vtéká ještě jedna významná řeka (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Dračích horách pramení řeka vtékající do Atlantiku (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rov Madagaskar odděluje od světadílu průliv (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jižnějším místem Afriky je (9) m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kticky celou Jižní Afriku pokrývá vegetační pás (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N_W_1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4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ocioekonomick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omě JAR jde o státy rozvojové (chudé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plantážnictví, chov sko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ůmys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obrovské zásoby nerostů (vývo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Křováci (původní obyvatelé), bantuské kmeny (černoši), Búrové (holandští přistěhovalci), Malgašové (Madagaskar). Kolonie Velké Británie a Francie (osvobozenecký boj v 60. letech 20. století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08_20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3733920"/>
            <a:ext cx="3733560" cy="2182680"/>
          </a:xfrm>
          <a:prstGeom prst="rect">
            <a:avLst/>
          </a:prstGeom>
          <a:ln w="0">
            <a:noFill/>
          </a:ln>
        </p:spPr>
      </p:pic>
      <p:pic>
        <p:nvPicPr>
          <p:cNvPr id="51" name="comandos%20boer%20en%20natal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4033800"/>
            <a:ext cx="35812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Stá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go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ts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sot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dagask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law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zambi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mi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vazijsk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m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imbab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íce z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pe%20town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905120"/>
            <a:ext cx="44956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6:41:34Z</dcterms:created>
  <dc:creator>kk</dc:creator>
  <dc:description/>
  <dc:language>en-US</dc:language>
  <cp:lastModifiedBy>kk</cp:lastModifiedBy>
  <dcterms:modified xsi:type="dcterms:W3CDTF">2006-04-25T18:12:34Z</dcterms:modified>
  <cp:revision>7</cp:revision>
  <dc:subject/>
  <dc:title>Jižní Afrika</dc:title>
</cp:coreProperties>
</file>