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F85-837E-4DC3-BBA2-D1BCA040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B31-25D8-4DFB-8589-D665E78E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0F3-9E8B-413C-9881-09CE98AD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63E-D642-4652-9FB2-0651D13A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ED5-6E24-4DB8-AD76-3611535B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42B-F29D-4526-B40D-AB82593D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D34-E004-4D3A-9921-48F5A3B1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808-CD6B-4A6A-AD73-28EDDFAE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4C0-4CBD-47C9-9276-C3388CC9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ACC-BC89-4B5C-95F3-8DD285E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77B-8899-488B-8E5E-2136135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ECB-BC82-4DF0-973C-583B134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000C-F341-4EDE-94CC-CC3869896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PT (Káhira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mě faraón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g-map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046400" cy="4343400"/>
          </a:xfrm>
          <a:prstGeom prst="rect">
            <a:avLst/>
          </a:prstGeom>
          <a:ln w="0">
            <a:noFill/>
          </a:ln>
        </p:spPr>
      </p:pic>
      <p:pic>
        <p:nvPicPr>
          <p:cNvPr id="43" name="P4190227" descr="klikněte pro zobrazení původního obrázku"/>
          <p:cNvPicPr/>
          <p:nvPr/>
        </p:nvPicPr>
        <p:blipFill>
          <a:blip r:embed="rId2"/>
          <a:stretch/>
        </p:blipFill>
        <p:spPr>
          <a:xfrm>
            <a:off x="4419720" y="19051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Přírodní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% rozlohy pouště (vodstvo, města, zemědělská půd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nebí suché pouštní (prší jen 7 dní do roka), jarní vítr chamsín, pobřeží středomořské podneb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ibory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7100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nil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Společ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Dějin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raónové, Římané, Turci, Britové, nezávislost od roku 195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abové a Berbeři, náboženství islám, většina obyvatel žije v deltě Nilu (Alexandrie, Káhira, Gíza, Port Saí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bu-simbel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4114800" cy="2867040"/>
          </a:xfrm>
          <a:prstGeom prst="rect">
            <a:avLst/>
          </a:prstGeom>
          <a:ln w="0">
            <a:noFill/>
          </a:ln>
        </p:spPr>
      </p:pic>
      <p:pic>
        <p:nvPicPr>
          <p:cNvPr id="51" name="cairo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343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Hospodářs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mědělstv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elláhové (zemědělští dělníci) obdělávají pobřeží Nilu (bavlna, cukrová třtina, pšeni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ůmysl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ěžba ropy, potravinářství, správa průplavu, cestovní r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gr_fayoum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479680" cy="3505320"/>
          </a:xfrm>
          <a:prstGeom prst="rect">
            <a:avLst/>
          </a:prstGeom>
          <a:ln w="0">
            <a:noFill/>
          </a:ln>
        </p:spPr>
      </p:pic>
      <p:pic>
        <p:nvPicPr>
          <p:cNvPr id="55" name="sfinga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51814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9:44:06Z</dcterms:created>
  <dc:creator>kk</dc:creator>
  <dc:description/>
  <dc:language>en-US</dc:language>
  <cp:lastModifiedBy>kk</cp:lastModifiedBy>
  <dcterms:modified xsi:type="dcterms:W3CDTF">2006-04-09T20:01:16Z</dcterms:modified>
  <cp:revision>3</cp:revision>
  <dc:subject/>
  <dc:title>EGYPT (Káhira) země faraónů</dc:title>
</cp:coreProperties>
</file>